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7044-B989-4D83-884A-A0B3D28EC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1F3D-DF50-4306-9A8E-16D6EFF48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6194-40C4-4634-B35A-897FC5C26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E1D8-DF03-4F16-A4F6-32243788A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55D4-DE62-40B5-9A0A-9B5AB99DA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F745-AF1D-40BC-B7AD-653FD1BD6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BE73-4797-4920-8C70-2276201A6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2107-F786-44D7-B9D3-B78AE45E1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92B4-2E3F-465E-90EE-9A9EB4D87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2B59-B313-45B7-9977-D56FD5844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C643-F711-43D0-917E-65D35A55F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B264-41A5-4A49-A9D8-9735106AB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F2CC4-9618-4F99-80F9-11225A1122C5}" type="slidenum">
              <a:rPr b="0" lang="ar-SA" sz="14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0000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0"/>
            <a:ext cx="876312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5200" spc="-1" strike="noStrike">
                <a:solidFill>
                  <a:srgbClr val="ffffff"/>
                </a:solidFill>
                <a:latin typeface="Tahoma"/>
                <a:cs typeface="????Boutros Rokaa"/>
              </a:rPr>
              <a:t>اليوم عُلق</a:t>
            </a:r>
            <a:endParaRPr b="0" lang="en-US" sz="1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0000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Arial Unicode MS"/>
                <a:ea typeface="Akhbar MT"/>
              </a:rPr>
              <a:t> اليوم عُلِّق على خَشَبَة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Arial Unicode MS"/>
                <a:cs typeface="Akhbar MT"/>
              </a:rPr>
              <a:t>الذي عَلَّقَ الأرضَ على المياه. إكليلٌ من شوكٍ وُضِعَ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Arial Unicode MS"/>
                <a:cs typeface="Akhbar MT"/>
              </a:rPr>
              <a:t>على هامَةِ مَلِكِ الملائكة. 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0000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Arial Unicode MS"/>
                <a:cs typeface="Akhbar MT"/>
              </a:rPr>
              <a:t>برفيراً كاذباً تسربل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Arial Unicode MS"/>
                <a:cs typeface="Akhbar MT"/>
              </a:rPr>
              <a:t>الذي وشّح السماءَ بالغيوم.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Arial Unicode MS"/>
                <a:cs typeface="Akhbar MT"/>
              </a:rPr>
              <a:t>قَبلَ لطمةً الذي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Arial Unicode MS"/>
                <a:cs typeface="Akhbar MT"/>
              </a:rPr>
              <a:t>أعتقَ آدمَ في الأردُن.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0000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Arial Unicode MS"/>
                <a:cs typeface="Akhbar MT"/>
              </a:rPr>
              <a:t>خَتَنُ البيعةِ سُمِّرَ</a:t>
            </a:r>
            <a:endParaRPr b="0" lang="en-US" sz="9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Arial Unicode MS"/>
                <a:cs typeface="Akhbar MT"/>
              </a:rPr>
              <a:t>بالمسامير وابنُ العذراءِ</a:t>
            </a:r>
            <a:endParaRPr b="0" lang="en-US" sz="9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400" spc="-1" strike="noStrike">
                <a:solidFill>
                  <a:srgbClr val="ffffff"/>
                </a:solidFill>
                <a:latin typeface="Arial Unicode MS"/>
                <a:cs typeface="Akhbar MT"/>
              </a:rPr>
              <a:t>طُعِنَ بحربة.</a:t>
            </a:r>
            <a:endParaRPr b="0" lang="en-US" sz="9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0000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300" spc="-1" strike="noStrike">
                <a:solidFill>
                  <a:srgbClr val="ffffff"/>
                </a:solidFill>
                <a:latin typeface="Arial Unicode MS"/>
                <a:cs typeface="Akhbar MT"/>
              </a:rPr>
              <a:t>نسجدُ لآلامِكَ أيها المسيح </a:t>
            </a:r>
            <a:endParaRPr b="0" lang="en-US" sz="103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300" spc="-1" strike="noStrike">
                <a:solidFill>
                  <a:srgbClr val="ffffff"/>
                </a:solidFill>
                <a:latin typeface="Arial Unicode MS"/>
                <a:cs typeface="Akhbar MT"/>
              </a:rPr>
              <a:t>فأرِنا قيامَتَكَ المجيدة.</a:t>
            </a:r>
            <a:endParaRPr b="0" lang="en-US" sz="10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8T11:44:59Z</dcterms:created>
  <dc:creator>-</dc:creator>
  <dc:description/>
  <dc:language>en-US</dc:language>
  <cp:lastModifiedBy>-</cp:lastModifiedBy>
  <dcterms:modified xsi:type="dcterms:W3CDTF">2003-04-18T11:44:59Z</dcterms:modified>
  <cp:revision>1</cp:revision>
  <dc:subject/>
  <dc:title>Slide 1</dc:title>
</cp:coreProperties>
</file>